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3A56-A17D-4B5F-BEAA-CA00F7A51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5F4A-BBC4-4B23-A48E-7E23023E8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connection from the article to HISD’ s definition of lite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2BBD-DDCE-44DD-A45F-AF4E66602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D457-3BE4-412E-AB5D-E59242AA0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revising to an essential understanding complete with guiding questi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odel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 centered and dire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har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are utilizing the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uid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are becoming more meta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depend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are independent learners and are now sharing/tea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C688-6EC8-4F57-84F2-F8B2BA5D3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odel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 centered and dire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har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are utilizing the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uid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are becoming more meta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depend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are independent learners and are now sharing/tea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82E9-9702-462A-9F28-712AD4BDE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1F07-D678-4806-A07A-CF4BB0F32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the RAFT and the entire cont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the RAFT activity with teacher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storm ideas as a group:  What is Black Fri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on this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your experiences w/ this conce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light concerns as far as methods that teacher would take to bridge gaps in student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ing ques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that I acknowledge the reason that I am jumping back to the 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32B7-8DB5-4817-8C09-6E9FF9A47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the content area vocabulary terms assigned for this 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storm with chart pap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s that take place on this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ack Fri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on this 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your personal experience with black Frid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1EA5-7AA5-4612-B4C1-7C0A8FCE4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evidence while readin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s take place after Jigs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667C-9852-47A7-A381-408FBAB41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A8DC-A519-4914-84EA-2F8B7EF2B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 out cheat sheet at thi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is available on the wi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6793-3099-4C08-9781-993052517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is time ask individual groups to report ou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DF04-A6BD-408F-98E5-EF83A4DA4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EACA-1D62-4758-83A0-66389A97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8EE-6464-46DC-8443-54362A1A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A5F-29A5-4219-87D4-B31E64D8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03B-D4DD-4EC6-BEA4-8F0B01EF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B6A8-AD15-41EA-87C7-38100458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7F36-161F-40A2-BCD3-D1F84BFA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6754-CB74-424B-85B4-330B5E81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A914-DC53-4156-9BB3-32700125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02E8-FFAA-43E6-85CD-ADEB56A0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81080" y="2743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67E7-D928-42A0-89BA-6B2E962C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B481-BAF7-4A91-9D8C-934017A3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80D-01C5-4AE1-A7F0-D4A39F9E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976B-4640-4F39-9E98-962195FE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8162-3079-404E-8D31-6A2F9AE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CF05-9987-41FC-B316-CA8B3FFA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A3E7-14A5-4AF5-9E74-F55E19DE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21AA-40C1-4C4F-ADD0-2CABF300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459-FC3B-4C89-8DC2-CF39DF63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1BF-02A1-4A18-84D1-900EC5C1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456-E685-47F6-A56E-FE587F5C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1080" y="2743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129-6F51-4528-B2C3-044128D0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B73-F690-4696-93EE-7BF49020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563-169B-4C3E-B73B-9443E15C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5E5-679F-4B57-AEC8-16E6EFA3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74BD-C878-4477-A826-61F4E4F4B8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A2TeaMS web lg.gif"/>
          <p:cNvPicPr/>
          <p:nvPr/>
        </p:nvPicPr>
        <p:blipFill>
          <a:blip r:embed="rId2"/>
          <a:stretch/>
        </p:blipFill>
        <p:spPr>
          <a:xfrm>
            <a:off x="380880" y="152280"/>
            <a:ext cx="1524240" cy="1067040"/>
          </a:xfrm>
          <a:prstGeom prst="rect">
            <a:avLst/>
          </a:prstGeom>
          <a:ln w="0">
            <a:noFill/>
          </a:ln>
        </p:spPr>
      </p:pic>
      <p:sp>
        <p:nvSpPr>
          <p:cNvPr id="6" name="Straight Connector 7"/>
          <p:cNvSpPr/>
          <p:nvPr/>
        </p:nvSpPr>
        <p:spPr>
          <a:xfrm>
            <a:off x="0" y="1370160"/>
            <a:ext cx="914400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traight Connector 8"/>
          <p:cNvSpPr/>
          <p:nvPr/>
        </p:nvSpPr>
        <p:spPr>
          <a:xfrm flipH="1">
            <a:off x="304920" y="1440"/>
            <a:ext cx="1440" cy="6858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A2TeaMS web lg.gif"/>
          <p:cNvPicPr/>
          <p:nvPr/>
        </p:nvPicPr>
        <p:blipFill>
          <a:blip r:embed="rId2"/>
          <a:stretch/>
        </p:blipFill>
        <p:spPr>
          <a:xfrm>
            <a:off x="380880" y="152280"/>
            <a:ext cx="1524240" cy="106704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7"/>
          <p:cNvSpPr/>
          <p:nvPr/>
        </p:nvSpPr>
        <p:spPr>
          <a:xfrm>
            <a:off x="0" y="1370160"/>
            <a:ext cx="914400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 flipH="1">
            <a:off x="304920" y="1440"/>
            <a:ext cx="1440" cy="6858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10"/>
          <p:cNvSpPr/>
          <p:nvPr/>
        </p:nvSpPr>
        <p:spPr>
          <a:xfrm>
            <a:off x="380880" y="2057400"/>
            <a:ext cx="8763120" cy="16002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9971-B0F8-431E-BC5C-E96AF14912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a2teams.wikispace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iteracy in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th and Science Classroom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Houston Independent School District literacy is defined as the ability to read, write, speak, listen and think effectivel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cy in Content 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MVI_0417.AVI" descr=""/>
          <p:cNvPicPr/>
          <p:nvPr/>
        </p:nvPicPr>
        <p:blipFill>
          <a:blip r:embed="rId1"/>
          <a:stretch/>
        </p:blipFill>
        <p:spPr>
          <a:xfrm>
            <a:off x="1523880" y="157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mplement literacy strategies in your content are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gor Continu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Jigsaw Groups, discuss the rigor continuum, and the transformation that takes place from teacher-centered to student- centered literacy instructi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y close attention to the transitions and teacher behaviors of the RAFT activity during the different stages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gor Continu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uzzle pieces provided, complete the continuum for the KWL activit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W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Table 3" descr=""/>
          <p:cNvPicPr/>
          <p:nvPr/>
        </p:nvPicPr>
        <p:blipFill>
          <a:blip r:embed="rId1"/>
          <a:stretch/>
        </p:blipFill>
        <p:spPr>
          <a:xfrm>
            <a:off x="384120" y="1450800"/>
            <a:ext cx="860760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F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 introduces the concept of RAFT, and students develop the paper with the teacher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057400"/>
          <a:ext cx="7772400" cy="39625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d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it C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ry 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c Str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ack 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he day after Thanksgiv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vings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ing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Depos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ivers lic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ty th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533520" y="55627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 a minimum of 5 wo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Star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lack Friday . .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ay after black Friday . .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result of black Friday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ticipation Gu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ion Gui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 to the statements by agreeing or disagree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reading, record evidence found in text related to each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ri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ould the process we used in implementing the RAFT benefit stud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ould you transfer this process into your class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efits of Literacy Co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MVI_0420.AVI" descr=""/>
          <p:cNvPicPr/>
          <p:nvPr/>
        </p:nvPicPr>
        <p:blipFill>
          <a:blip r:embed="rId1"/>
          <a:stretch/>
        </p:blipFill>
        <p:spPr>
          <a:xfrm>
            <a:off x="1523880" y="157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Turn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rigor continuum for graphic organiz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Behav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ri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Literacy Commitments did we fulfill during this professional develop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literacy strategy will you commit to using in your classroo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 of Literacy Commit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MVI_0422.AVI" descr=""/>
          <p:cNvPicPr/>
          <p:nvPr/>
        </p:nvPicPr>
        <p:blipFill>
          <a:blip r:embed="rId1"/>
          <a:stretch/>
        </p:blipFill>
        <p:spPr>
          <a:xfrm>
            <a:off x="1523880" y="157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ternoon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your HAPG for this six-wee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you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Conce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Out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(Literacy Best Practi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ease upload final draft to wik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loading to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a2teams.wikispace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g 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 Lesson Plans (bottom-left marg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Literacy Strate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late is the first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Edit this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load under appropriate content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ve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vidually (or as a team) devise a plan to implement selected strateg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-Based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-Based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gsaw:  In your groups assign an individual  to each topic.  Write your name in the box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3505320"/>
          <a:ext cx="8077320" cy="1828800"/>
        </p:xfrm>
        <a:graphic>
          <a:graphicData uri="http://schemas.openxmlformats.org/drawingml/2006/table">
            <a:tbl>
              <a:tblPr/>
              <a:tblGrid>
                <a:gridCol w="2297160"/>
                <a:gridCol w="1969920"/>
                <a:gridCol w="1905120"/>
                <a:gridCol w="1905120"/>
              </a:tblGrid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ame: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Calibri"/>
                        </a:rPr>
                        <a:t>Lakeis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A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opic:  Introduction and Scientific Litera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ame: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Calibri"/>
                        </a:rPr>
                        <a:t>A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opic:  Concept Understa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ame: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Calibri"/>
                        </a:rPr>
                        <a:t>A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opic: Process Skills and Thinking Strate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ame: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Calibri"/>
                        </a:rPr>
                        <a:t>Wuanet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opic: Habits of the Mind, Science- Technology- Society Connections, and Methods of Teaching Scienc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-Based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the reading you will highlight references to having students read, write, listen, or spea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chor into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icipant 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ll give a 2 minutes synopsis of their text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icipants B,C and 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then find an anchor in the previous presenter’s presentation that relates their text, and give a 2 minute synopsis of the relationship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 must b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bas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cy in the Science/ Math Class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MVI_0419.AVI" descr=""/>
          <p:cNvPicPr/>
          <p:nvPr/>
        </p:nvPicPr>
        <p:blipFill>
          <a:blip r:embed="rId1"/>
          <a:stretch/>
        </p:blipFill>
        <p:spPr>
          <a:xfrm>
            <a:off x="1523880" y="157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we lea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MVI_0421.AVI" descr=""/>
          <p:cNvPicPr/>
          <p:nvPr/>
        </p:nvPicPr>
        <p:blipFill>
          <a:blip r:embed="rId1"/>
          <a:stretch/>
        </p:blipFill>
        <p:spPr>
          <a:xfrm>
            <a:off x="1523880" y="157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ticipation Gu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Anticipation Gui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rding to the textual findings, is there evidence that supports or disproves your initial response in the anticipation guid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ease record your reflection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22:03:16Z</dcterms:created>
  <dc:creator>HISD</dc:creator>
  <dc:description/>
  <dc:language>en-US</dc:language>
  <cp:lastModifiedBy>HISD</cp:lastModifiedBy>
  <dcterms:modified xsi:type="dcterms:W3CDTF">2009-03-30T22:39:21Z</dcterms:modified>
  <cp:revision>43</cp:revision>
  <dc:subject/>
  <dc:title>Slide 1</dc:title>
</cp:coreProperties>
</file>